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559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3248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33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3"/>
          </p:nvPr>
        </p:nvSpPr>
        <p:spPr>
          <a:xfrm>
            <a:off x="-360" y="8832600"/>
            <a:ext cx="2955960" cy="44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4"/>
          </p:nvPr>
        </p:nvSpPr>
        <p:spPr>
          <a:xfrm>
            <a:off x="3885840" y="8832600"/>
            <a:ext cx="2955960" cy="44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00B84-6398-4ECE-9443-057D657072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0484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0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104840" y="69840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01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E8D1-FBA2-45A5-9C30-A5D3DD85E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38676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4360" y="3186360"/>
            <a:ext cx="638676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85AF-0185-4C80-AEBE-5BAA085DD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7120" y="14475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4360" y="31863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7120" y="31863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4E1C-6FA1-4E85-81EA-7A70F7E0A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20563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4000" y="1447560"/>
            <a:ext cx="20563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280" y="1447560"/>
            <a:ext cx="20563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4360" y="3186360"/>
            <a:ext cx="20563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4000" y="3186360"/>
            <a:ext cx="20563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280" y="3186360"/>
            <a:ext cx="20563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FB60-7552-4468-A6A0-27EEBF0AC3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4360" y="1447560"/>
            <a:ext cx="6386760" cy="33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01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A272-E57D-4BF4-ADA3-6691559AA2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38676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6D35-E04A-4EEE-820E-DB19F3DA1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65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7120" y="1447560"/>
            <a:ext cx="31165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3043-6237-4C13-8754-3A3804D62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541F-7C23-45E7-83B0-A228815E4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4360" y="379080"/>
            <a:ext cx="63867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01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A8AED-E06C-43C8-9943-A52EA32D0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7120" y="1447560"/>
            <a:ext cx="31165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4360" y="31863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97C8-D977-4637-9152-C0FCBBC3E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65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7120" y="14475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7120" y="31863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0D27-E3DB-4CA1-910E-46BA9DC80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7120" y="1447560"/>
            <a:ext cx="311652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4360" y="3186360"/>
            <a:ext cx="638676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21C7-7593-4A95-BCAF-5298265A5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4360" y="1447560"/>
            <a:ext cx="638676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6160" indent="-1461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-150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2852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1461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95440" indent="-123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95440" indent="-123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95440" indent="-123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29240" y="5803920"/>
            <a:ext cx="6699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2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E3073-7750-4EF9-AAF8-86ECA32846F1}" type="slidenum"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79132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492200"/>
            <a:ext cx="777240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Comic Sans MS"/>
              </a:rPr>
              <a:t>Propagation d’épidémie</a:t>
            </a: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br>
              <a:rPr sz="3600"/>
            </a:b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la Rougeole à l'Unil-EPFL</a:t>
            </a:r>
            <a:r>
              <a:rPr b="0" lang="en-GB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95520" y="3600360"/>
            <a:ext cx="686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perviseur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ha Her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tudiants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uno Pais &amp; Didier Langue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 avril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5734080"/>
            <a:ext cx="1584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01080" y="5805360"/>
            <a:ext cx="863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CAA0-6C17-4BD2-9149-446ADD3106B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720" y="345960"/>
            <a:ext cx="79200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700" spc="-1" strike="noStrike">
                <a:solidFill>
                  <a:srgbClr val="cc0000"/>
                </a:solidFill>
                <a:latin typeface="Comic Sans MS"/>
              </a:rPr>
              <a:t>Méthodologie </a:t>
            </a:r>
            <a:br>
              <a:rPr sz="37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(conditions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5734080"/>
            <a:ext cx="16556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0000" y="1447920"/>
            <a:ext cx="662940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ditions initia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S(t=0) = 2500 dont 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400 (U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00 (EPF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I(t=0) = 2 et R(t=0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(t=tf) =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nombre totale d'infectés = 4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Modèle perfectionné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267920"/>
            <a:ext cx="36734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ction y=f(x,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= 0.008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=0.000232958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=2/1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=0.95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=0.050905;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(t&gt;=14 &amp; t&lt;=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Site de l'Unil avec x(1),x(2),x(3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1)=-r*x(1)*x(2) + s*(-x(1)+x(4)) -u*v*x(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2)=r*x(1)*x(2)-a*x(2) + s*(-x(2)+x(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3)=a*x(2) + s*(-x(3)+x(6)) + u*v*x(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Site EPFL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4) = -r*x(4)*x(5) +  s*(x(1)-x(4)) - u*v*x(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5) = r*x(4)*x(5)-a*x(5) + s*(x(2)-x(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6) = a*x(5) +  s*(x(3)-x(6)) + u*v*x(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4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1197000"/>
            <a:ext cx="421164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4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4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Site de l'Unil avec x(1),x(2),x(3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1)=-r*x(1)*x(2) + s*(-x(1)+x(4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2)=r*x(1)*x(2)-a*x(2) + s*(-x(2)+x(5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3)=a*x(2) + s*(-x(3)+x(6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Site EPF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4) = -r*x(4)*x(5) +  s*(x(1)-x(4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5) = r*x(4)*x(5)-a*x(5) + s*(x(2)-x(5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(6) = a*x(5) +  s*(x(3)-x(6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Optimisation des paramètre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8920" y="1537920"/>
            <a:ext cx="63882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alcul de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e personne sera isolée en moyenne 6 jours aprè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être susceptible de transmettre le virus. Le taux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uérison est donc de 1/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cherche de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avec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fix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 recherche les valeurs les plus proch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 réalité à l’aide de la formule suiv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 algn="ctr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EPFL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– 37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UNIL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12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it le plus peti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9440" y="5759280"/>
            <a:ext cx="1511280" cy="7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132000" y="4076640"/>
            <a:ext cx="3529080" cy="722520"/>
            <a:chOff x="3132000" y="4076640"/>
            <a:chExt cx="3529080" cy="722520"/>
          </a:xfrm>
        </p:grpSpPr>
        <p:sp>
          <p:nvSpPr>
            <p:cNvPr id="109" name=""/>
            <p:cNvSpPr/>
            <p:nvPr/>
          </p:nvSpPr>
          <p:spPr>
            <a:xfrm>
              <a:off x="3132000" y="4076640"/>
              <a:ext cx="3527640" cy="720720"/>
            </a:xfrm>
            <a:prstGeom prst="rect">
              <a:avLst/>
            </a:prstGeom>
            <a:gradFill rotWithShape="0">
              <a:gsLst>
                <a:gs pos="0">
                  <a:srgbClr val="ef11c5"/>
                </a:gs>
                <a:gs pos="100000">
                  <a:srgbClr val="f7a3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32000" y="4076640"/>
              <a:ext cx="3527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32000" y="4797360"/>
              <a:ext cx="3527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2000" y="4076640"/>
              <a:ext cx="180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59640" y="4076640"/>
              <a:ext cx="144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Optimisation des paramètre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03280" y="1413000"/>
            <a:ext cx="3119400" cy="3598560"/>
            <a:chOff x="1403280" y="1413000"/>
            <a:chExt cx="3119400" cy="3598560"/>
          </a:xfrm>
        </p:grpSpPr>
        <p:sp>
          <p:nvSpPr>
            <p:cNvPr id="116" name=""/>
            <p:cNvSpPr/>
            <p:nvPr/>
          </p:nvSpPr>
          <p:spPr>
            <a:xfrm>
              <a:off x="3521160" y="474804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1.26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35120" y="474804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03280" y="474804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21160" y="448632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3.77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35120" y="448632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03280" y="448632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21160" y="4222800"/>
              <a:ext cx="1000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9.6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5120" y="4222800"/>
              <a:ext cx="986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03280" y="4222800"/>
              <a:ext cx="1131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21160" y="396072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9.1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35120" y="396072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3280" y="396072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21160" y="369900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9.64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35120" y="369900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03280" y="369900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21160" y="343692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3.2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35120" y="343692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03280" y="343692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1160" y="317484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46.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35120" y="317484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03280" y="317484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21160" y="2911320"/>
              <a:ext cx="1000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7.8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35120" y="2911320"/>
              <a:ext cx="986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03280" y="2911320"/>
              <a:ext cx="1131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264960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8.06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35120" y="264960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03280" y="264960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1160" y="2462040"/>
              <a:ext cx="100008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86.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35120" y="2462040"/>
              <a:ext cx="9860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03280" y="2462040"/>
              <a:ext cx="11318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21160" y="220032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72.5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35120" y="220032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03280" y="220032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21160" y="1936800"/>
              <a:ext cx="1000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997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35120" y="1936800"/>
              <a:ext cx="986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03280" y="1936800"/>
              <a:ext cx="1131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21160" y="1674720"/>
              <a:ext cx="10000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407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35120" y="1674720"/>
              <a:ext cx="986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03280" y="1674720"/>
              <a:ext cx="1131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00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21160" y="1413000"/>
              <a:ext cx="10000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û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35120" y="1413000"/>
              <a:ext cx="9860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03280" y="1413000"/>
              <a:ext cx="1131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 algn="ctr">
                <a:lnSpc>
                  <a:spcPct val="64000"/>
                </a:lnSpc>
                <a:tabLst>
                  <a:tab algn="l" pos="0"/>
                  <a:tab algn="l" pos="341280"/>
                  <a:tab algn="l" pos="789120"/>
                  <a:tab algn="l" pos="1238400"/>
                  <a:tab algn="l" pos="1687680"/>
                  <a:tab algn="l" pos="2136600"/>
                  <a:tab algn="l" pos="2585880"/>
                  <a:tab algn="l" pos="3035160"/>
                  <a:tab algn="l" pos="3484440"/>
                  <a:tab algn="l" pos="3933720"/>
                  <a:tab algn="l" pos="4383000"/>
                  <a:tab algn="l" pos="4832280"/>
                  <a:tab algn="l" pos="5281560"/>
                  <a:tab algn="l" pos="5730840"/>
                  <a:tab algn="l" pos="6180120"/>
                  <a:tab algn="l" pos="6629400"/>
                  <a:tab algn="l" pos="7078680"/>
                  <a:tab algn="l" pos="7527960"/>
                  <a:tab algn="l" pos="7977240"/>
                  <a:tab algn="l" pos="8426520"/>
                  <a:tab algn="l" pos="8875800"/>
                  <a:tab algn="l" pos="93250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03280" y="1413000"/>
              <a:ext cx="31179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03280" y="5010120"/>
              <a:ext cx="31179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03280" y="1413000"/>
              <a:ext cx="1800" cy="359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240" y="1413000"/>
              <a:ext cx="1440" cy="359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003640" y="1484280"/>
            <a:ext cx="3119760" cy="3602160"/>
            <a:chOff x="5003640" y="1484280"/>
            <a:chExt cx="3119760" cy="3602160"/>
          </a:xfrm>
        </p:grpSpPr>
        <p:sp>
          <p:nvSpPr>
            <p:cNvPr id="164" name=""/>
            <p:cNvSpPr/>
            <p:nvPr/>
          </p:nvSpPr>
          <p:spPr>
            <a:xfrm>
              <a:off x="7121520" y="485928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1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35840" y="485928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8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03640" y="485928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32958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21520" y="463392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56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35840" y="463392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03640" y="463392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21520" y="440856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9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35840" y="440856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03640" y="440856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21520" y="418320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.26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35840" y="418320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9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03640" y="418320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21520" y="3954600"/>
              <a:ext cx="10000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.4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35840" y="3954600"/>
              <a:ext cx="9856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03640" y="3954600"/>
              <a:ext cx="11322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21520" y="3728880"/>
              <a:ext cx="1000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.04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5840" y="3728880"/>
              <a:ext cx="9856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03640" y="3728880"/>
              <a:ext cx="11322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21520" y="350352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.33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35840" y="350352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8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03640" y="350352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21520" y="327816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.4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35840" y="327816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03640" y="327816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21520" y="305280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.8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35840" y="305280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03640" y="305280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21520" y="282744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.3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35840" y="282744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03640" y="282744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21520" y="260208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.27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5840" y="260208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03640" y="260208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1520" y="2376360"/>
              <a:ext cx="1000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.8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35840" y="2376360"/>
              <a:ext cx="9856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19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03640" y="2376360"/>
              <a:ext cx="11322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21520" y="2149560"/>
              <a:ext cx="10000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.48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35840" y="2149560"/>
              <a:ext cx="9856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20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03640" y="2149560"/>
              <a:ext cx="11322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21520" y="1935000"/>
              <a:ext cx="1000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8.7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35840" y="1935000"/>
              <a:ext cx="985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2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03640" y="1935000"/>
              <a:ext cx="11322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21520" y="170964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.88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35840" y="170964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2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3640" y="170964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002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1520" y="1484280"/>
              <a:ext cx="1000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oû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35840" y="1484280"/>
              <a:ext cx="985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03640" y="1484280"/>
              <a:ext cx="1132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03640" y="1484280"/>
              <a:ext cx="311796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03640" y="5084640"/>
              <a:ext cx="311796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03640" y="1484280"/>
              <a:ext cx="1800" cy="360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21600" y="1484280"/>
              <a:ext cx="1800" cy="360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Modélisation des flux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38820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délisation des flux des person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4000" y="3645000"/>
            <a:ext cx="57610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4010040" cy="1199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619280" y="33577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 calcul des flux se fait également à l’aide de la formule précéd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Paramètres de la vaccination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32000" y="1412640"/>
            <a:ext cx="638784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s paramètres u et v de la vaccin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v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dS/d(t) = - v S(t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vec t= 19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v = -log (S(t)/2500) / 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(19) =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v = 0.0509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 = 0.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Dynamique des population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140360" cy="3036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865680" cy="3025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84360" y="1341360"/>
            <a:ext cx="2928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ynamique sans vac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16360" y="1341360"/>
            <a:ext cx="2928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ynamique avec vac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38880" y="4869000"/>
            <a:ext cx="543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j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-465480" y="2963880"/>
            <a:ext cx="1789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person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3637800" y="3107880"/>
            <a:ext cx="1789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mbre de person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75960" y="4797360"/>
            <a:ext cx="543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j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Effet de la vaccination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1640" y="5761080"/>
            <a:ext cx="172908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4360" y="1619280"/>
            <a:ext cx="8675640" cy="3658680"/>
            <a:chOff x="144360" y="1619280"/>
            <a:chExt cx="8675640" cy="365868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4746600" y="1619280"/>
              <a:ext cx="4073400" cy="34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369720" y="1619280"/>
              <a:ext cx="4035600" cy="34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882800" y="5067360"/>
              <a:ext cx="738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semai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61000" y="5067360"/>
              <a:ext cx="738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semai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3477240" y="3270240"/>
              <a:ext cx="2472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Nombre de personnes infecté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200000">
              <a:off x="-1216800" y="3007440"/>
              <a:ext cx="29336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Nombre de personnes infecté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90320" y="1341360"/>
            <a:ext cx="2402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ynamique avec vac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74040" y="1341360"/>
            <a:ext cx="24073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ynamique sans vac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9280" y="2700360"/>
            <a:ext cx="181080" cy="36036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920000" y="4500720"/>
            <a:ext cx="72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00360" y="1979640"/>
            <a:ext cx="1620720" cy="1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L+EP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71640" y="4500720"/>
            <a:ext cx="8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0000" y="4500720"/>
            <a:ext cx="360360" cy="180720"/>
          </a:xfrm>
          <a:prstGeom prst="leftArrow">
            <a:avLst>
              <a:gd name="adj1" fmla="val 50000"/>
              <a:gd name="adj2" fmla="val 498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40000" y="1979640"/>
            <a:ext cx="360360" cy="181080"/>
          </a:xfrm>
          <a:prstGeom prst="left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19640" y="2160720"/>
            <a:ext cx="1621080" cy="1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L+EP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12000" y="3240000"/>
            <a:ext cx="82872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60360" y="3240000"/>
            <a:ext cx="9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0360" y="3959280"/>
            <a:ext cx="181080" cy="36036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0000" y="324000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0000" y="2160720"/>
            <a:ext cx="360360" cy="180720"/>
          </a:xfrm>
          <a:prstGeom prst="rightArrow">
            <a:avLst>
              <a:gd name="adj1" fmla="val 50000"/>
              <a:gd name="adj2" fmla="val 4985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Perspective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38820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6160" indent="-14616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ésence sur site que 5 jours sur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enir compte des flux extéri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4360" y="42336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674360" y="1447920"/>
            <a:ext cx="638820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80000" y="333000"/>
            <a:ext cx="23623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Objectif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0000" y="1503000"/>
            <a:ext cx="720072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6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tudier le modèle simple 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pliquer et Interprèter le modèle SIR sur un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’épidémie actuel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6880" indent="0" algn="ctr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200" spc="-1" strike="noStrike">
                <a:solidFill>
                  <a:srgbClr val="000000"/>
                </a:solidFill>
                <a:latin typeface="Comic Sans MS"/>
              </a:rPr>
              <a:t>Epidémie de la Rougeole à l'Unil-EPF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dapter ce modèle à notre cas particulier afin d’évalu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 les risques enco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 efficacité de la campagne de vaccinatio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1440" y="1371600"/>
            <a:ext cx="5721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1628640"/>
            <a:ext cx="144720" cy="144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213372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07664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72360" y="5805360"/>
            <a:ext cx="971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541C-10EA-4003-B0A8-172AE42C6D7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’épidémi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316872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’épidémi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qu’est-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ct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e épidémie signi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ugmentation rapid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’incidence d’u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athologie en un lie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t sur un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nn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 algn="ctr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54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211640" y="1557360"/>
            <a:ext cx="4608360" cy="3379320"/>
            <a:chOff x="4211640" y="1557360"/>
            <a:chExt cx="4608360" cy="3379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4211640" y="1557360"/>
              <a:ext cx="460836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506920" y="4726080"/>
              <a:ext cx="17290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4000"/>
                </a:lnSpc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Nombre de jo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959640" y="2924280"/>
            <a:ext cx="378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Intérêts du modèle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4360" y="1079640"/>
            <a:ext cx="639468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 modèle SIR permet de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379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isualiser graphiquement la propagation d’une maladie au sein d’un espace clos et son év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379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'évaluer et prévoir les risques d'épidémie, sa durée ainsi que son pic d'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5734080"/>
            <a:ext cx="180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e modèle simple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4360" y="1460160"/>
            <a:ext cx="6713640" cy="33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616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 système dyna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S(t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nombre de personne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aines susceptibl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de contracter la mal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(t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nombres d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ersonnes infecté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R(t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nombre d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ersonnes immunisé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u décéd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573408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35280" y="4076640"/>
            <a:ext cx="564804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Le modèle simple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9440" y="5759280"/>
            <a:ext cx="1511280" cy="7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1700280"/>
            <a:ext cx="3672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 système dynam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dS/d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-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(t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dI/d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(t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(t) -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dR/d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64000" y="1700280"/>
            <a:ext cx="320364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s paramèt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 : indice de virul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vitesse de transmis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: indice de gué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2565360"/>
            <a:ext cx="252360" cy="1800360"/>
          </a:xfrm>
          <a:custGeom>
            <a:avLst/>
            <a:gdLst>
              <a:gd name="textAreaLeft" fmla="*/ 161280 w 252360"/>
              <a:gd name="textAreaRight" fmla="*/ 252720 w 252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Perfectionnement du modèl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71364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us avons optimiser le modèle de manière à pren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n considé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e flux des personn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qui se déplacent entre les sites de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NIL-EPF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a campagne de vaccina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du lundi 23 mars au vendredi 11 avril soit 19 j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Données acquise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04036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49440" y="5759280"/>
            <a:ext cx="1511280" cy="7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720" y="345960"/>
            <a:ext cx="79200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700" spc="-1" strike="noStrike">
                <a:solidFill>
                  <a:srgbClr val="cc0000"/>
                </a:solidFill>
                <a:latin typeface="Comic Sans MS"/>
              </a:rPr>
              <a:t>Méthodologie </a:t>
            </a:r>
            <a:br>
              <a:rPr sz="3700"/>
            </a:b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(choix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5734080"/>
            <a:ext cx="16556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4720" y="1447920"/>
            <a:ext cx="639468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oix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Espace clos, divisé en 2 sites avec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Intervalle de 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Une semaine = 7 jours de 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Un dose suffit pour être vaccin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 Pas de période d'incub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 5-6 jours pour être mis en quarant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 Uniquement les 10% initialement no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ccinées son pris en compte dans no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dier Languetin</cp:lastModifiedBy>
  <cp:revision>0</cp:revision>
  <dc:subject/>
  <dc:title>Présentation PowerPoint</dc:title>
</cp:coreProperties>
</file>